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921D-3F38-4086-9F7C-8059D570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220-9D19-4755-9378-D00FCF2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E4C-FA0E-448D-B67D-C0844571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DDA-509E-43EA-B391-92FBDD3C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D80-3BE1-4D97-9692-D0E7EC7C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540-8FCE-4D12-A7FB-E79A8F6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D11-6337-41C9-BDD1-78D8A010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C84-2225-4818-A470-343D326B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4C3-5C6B-45A0-B120-CC0486E9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355-1DC4-45BE-A001-B05DFA13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20B-60BD-4FE3-9052-EE6B351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9F8-5E63-419F-A152-2DEC8FED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F7E6-34F2-477C-9DF2-9E35558C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pso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30240" y="404640"/>
            <a:ext cx="908352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11400" y="92160"/>
            <a:ext cx="671328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371600" y="122400"/>
            <a:ext cx="640080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371600" y="1401840"/>
            <a:ext cx="6400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36480" y="725400"/>
            <a:ext cx="79740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52280" y="538200"/>
            <a:ext cx="87901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38080" y="11160"/>
            <a:ext cx="73915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52280" y="771480"/>
            <a:ext cx="88394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09480" y="23760"/>
            <a:ext cx="792504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5800" y="1981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Office of Instructional Techn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10-222-16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04920" y="6172200"/>
            <a:ext cx="85341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80880" y="624852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p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8:02:20Z</dcterms:created>
  <dc:creator>Installer</dc:creator>
  <dc:description/>
  <dc:language>en-US</dc:language>
  <cp:lastModifiedBy>JSchnepp</cp:lastModifiedBy>
  <dcterms:modified xsi:type="dcterms:W3CDTF">2010-09-23T16:06:54Z</dcterms:modified>
  <cp:revision>6</cp:revision>
  <dc:subject/>
  <dc:title>Slide 1</dc:title>
</cp:coreProperties>
</file>